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760" y="1052280"/>
            <a:ext cx="8229600" cy="148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нтегрисане ак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мске студије фармације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Г08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Клиничка фармација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684360" y="2852640"/>
            <a:ext cx="77724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РАЦИОНАЛНА ПРИМЕ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ФАРМАКОТЕРАПИЈЕ КОД ИНФЕКТИВНИ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БОЛЕ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. пред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1547640" y="4976640"/>
            <a:ext cx="651384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Летњи семестар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02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r>
              <a:rPr b="0" lang="sr-RS" sz="3200" spc="-1" strike="noStrike">
                <a:solidFill>
                  <a:srgbClr val="000000"/>
                </a:solidFill>
                <a:latin typeface="Comic Sans MS"/>
              </a:rPr>
              <a:t>го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Карактеристике лека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68360" y="198864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пектар деј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верити да ли постоји алергијска реакција (пеницилини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крштена реакциј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 ли продире у инфламаторна ткива (менингитис, остеомијелитис, простатитис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жељена деј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а ли је бактерицид или бактериостат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езистен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Трошк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орална терапија кад год је могу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употреба антибиотика са дугим временом полуелимина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монотерапија када год је могућ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044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којим случајевима је оправдана комбинована употреба антибиот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25160" y="1844640"/>
            <a:ext cx="850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да је потребно покрити цео спектар проузроковача (мешовите инфекције), нпр. код емпиријске терапије абдоминалних инфекције, сепсе, фебрилне неутропеније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да треба постићи синергистички бактерицидни ефекат, нпр. код ендокардити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ада треба спречити настанак резистентних микроорганизама, нпр. код терапије туберкулозе, инфекција изазваних псеудомонасом или стафилоко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Комбинације у циљу смањивања токсичности, нпр. Амфотерицин Б + флуцитозин (смањење  нефротоксичности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04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У којим случајевима је оправдана профилактичка употреба антибиоти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72520" y="2133720"/>
            <a:ext cx="8502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реоперативна припрема код чистих и контаминираних опер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акон напада реуматске грозни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д болесника који су прележали реуматски или инфективни ендокардитис, односно болесника са вештачким срчаним залисцима, ако се подвргавају некој од стоматолошких или инванзивних дијагностичких/терапијских процедура на дигестивном, генитоуринарном или респираторном тра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д невакцинисаних особа које живе у домаћинству са тубекулозни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болесник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д чланова затвореног колектива уколико један од њих оболи 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енингококног менингитис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Код потхрањених или болесника са дефектом имуног система из било ког разло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04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Примери профилактичке употребе антибиот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307800" y="2492280"/>
          <a:ext cx="8502840" cy="3948120"/>
        </p:xfrm>
        <a:graphic>
          <a:graphicData uri="http://schemas.openxmlformats.org/drawingml/2006/table">
            <a:tbl>
              <a:tblPr/>
              <a:tblGrid>
                <a:gridCol w="3578400"/>
                <a:gridCol w="492444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Врста интервен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тимикробна терап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Билијарне операциј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азолин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 i.v.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 до 24ч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цефуроксим 1,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i.v. 12-24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је на глави и врат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азолин 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 i.v.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24ч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клиндамицин 600-90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 i.v. +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ентамицин 1,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/kg i.v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арски рез, абортус у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I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азолин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 i.v.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градња протезе зглоба ку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азолин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 i.v.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12 до 24ч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ли цефуроксим 1,5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i.v. 12-24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 или ванкомицин 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 i.v.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ролошке операције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азолин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 i.v.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/8ч + бактрим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а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ерација дојк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азолин 1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  i.v.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као једина доз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</a:tbl>
          </a:graphicData>
        </a:graphic>
      </p:graphicFrame>
      <p:sp>
        <p:nvSpPr>
          <p:cNvPr id="12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04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Које карактеристике пацијента утичу на избор антибиотика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272520" y="2133720"/>
            <a:ext cx="8502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узраст пацијент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имунолошки стату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присуство других болести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подношљивост антимикробне терапиј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– потребно је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утврдити да ли постоје алергијске реакције које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немогућавају примену антимикробног лек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период трудноће и дојењ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ослабљена функција јетре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код хепатичке инсуфицијенције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не би требало примењивати антибиотике који се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метаболишу у јетри: рифампицин, макролиди, доксициклин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ослабљена функција бубрега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(нпр. у случају примене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аминоглкозида потребно одређивање дозе према</a:t>
            </a: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вредностима реналног клиренса) 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b050"/>
                </a:solidFill>
                <a:latin typeface="Comic Sans MS"/>
              </a:rPr>
              <a:t>истовремена примена других потребних лек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04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абљена функција бубрега и примена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нтибио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307440" y="1960560"/>
            <a:ext cx="850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мена појединих антибиотика може бити удружена са нефротоксичношћ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Ренални пут елиминације имају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аминогликозиди, азтреонам, бета лактами, имипенем, луорохинолони, триметоприм, тетациклин, ванкомиц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ценити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rCl за процену степена оштећења бубрежне функциј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рилагодити дозу лека према функцији бубрега и другим карактеристикама за сваког пацијента посеб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1"/>
          <a:srcRect l="15295" t="28922" r="13408" b="47308"/>
          <a:stretch/>
        </p:blipFill>
        <p:spPr>
          <a:xfrm>
            <a:off x="460440" y="5013360"/>
            <a:ext cx="857880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04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лабљена функција јетре и примена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нтибиотик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07440" y="1960560"/>
            <a:ext cx="850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римена појединих антибиотика може бити са удружена хепатотоксичношћ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Хепатобилијарни пут елиминације имају 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цефоперазон, хлорамфеникол, клиндамицин, доксициклин, еритромицин, метронидазол, рифампицин, нафци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ко је инсуфицијенција тешког степена, смањити дневну дозу антибиотика који се елиминише преко јетре за 5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лтернативно, користити антибиотик који се елиминише преко бубрега у нормалној до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Употребити актуелне водиче и препору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0440" y="98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Трајање антибиотске терап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7440" y="2133720"/>
            <a:ext cx="8504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Најчешће је 7 да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Продужена примена је потребна код следећих стањ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4 недеље – хронични отитис, хронични синуситис, акутни остеомијелитис, хронични пијелонефритис субакутни бактеријски ендокардитис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6 недеља - акутни бактеријски ендокард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3 месеца- хронични простат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6 месеци – ТБЦ, хронични остеомијелит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еници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родни пеницилини Г и В (бензилпеницилин, феноксиметилпеницил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ницилаза-резистентни пеницилини (нафцилин, оксацилин, клоксацилин, диклоксацил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ницилини са широким спектром деловања  (апмицилин, амоксицилин, бакампицил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еницилини са проширеним спектром деловања (карбеницилин, тикарцилин, азлоцилин, пиперацил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Разлике у односу на спектар деј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Елиминација путем бубре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Д: алергијска реакција, </a:t>
            </a:r>
            <a:r>
              <a:rPr b="0" lang="hr-HR" sz="2000" spc="-1" strike="noStrike">
                <a:solidFill>
                  <a:srgbClr val="000000"/>
                </a:solidFill>
                <a:latin typeface="Comic Sans MS"/>
              </a:rPr>
              <a:t>Stevens–Johnson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-ов синдром, идиоскинкраз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Цефалоспор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5 генерација у односу на спектар дел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 генерација (цефалексин, цефадроксил, цефазолин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 генерација (цефахлор, цефуксим, цефамандо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II генерација (цефиксим, цефподоксим, цефотаксим, цефтриаксон, цефтазидим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V генерација (цефепим) и V генерација (цефтаролин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Д: алергија, релативна нефротоксичност, идиосинкразија, ометају синтезу фактора коагул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Антимикробна терап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тибиотици су хемијска једињења која се користе са циљем заустављања животних процеса микроорганизама (бактерија, рикеција, хламидија, гливица, протозоа и вирус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Монобакт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адрже 5-монобактамски прст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зистентни на бета лактамазе грам негативних бакте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зтрео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арентерална приме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нална екскреција и пролази хематоенцефалну баријер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 постоји укрштена алергијска реакциј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Д: макулопапулозни ра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арбапене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мипенем циластатин, меропенем, ертапен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Отпорни на бета лактам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Циластатин (инхибитор дехидропептидазе-1) у комбинацији са имипенемом парентерал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Ертапенем спорије се елимини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Меропенем најнижи потенцијал да изазове конвулз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Д: мучнина, повраћање, конвулзије, оспа, тромбоцитопенија, поремећаји функције јетре, позитиван Coombs`-ов те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Тетрацикли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актериостатиц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Хлортетрациклин, окситетрациклин, метациклин, моноциклин, доксоциклин, тигецик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Д: дијареја, мучнина, повраћање (чешћа појава псеудомембранозног колитиса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lostridium diffici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), хиперсензитивне реакције, ексфолијативни дерматитис, хепатотоксичност и погоршање реналне болести, пребојавање и оштећење на зубима и костима (КИ: деца до 12 година и трудниц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Макрол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ритромицин, азитромицин, кларитромицин, рокситромицин, мидеками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Фидаксомицин ефикасан против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lostridium diffici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бак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езују се за 50С субјединицу рибоз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Еритромицин НД: холестатски хепатитис, ГИТ тегобе, дијаре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тупају у интеракције са теофилином, варфарином и терфенади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Аминоглизид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Гентамицин, амикацин, стрептомицин, тобрамицин, канамицин, нетилмицин и неомиц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инергистички делују са бета лактамским антибиотиц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ст-антибиотски ефек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Дозно-зависна нежељема дејст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Ото и нефро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већавају неуромишићну блокаду недеполаризирајућих неуромускуларних антагон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Сулфонамиди и триметопри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интетски производи и антагонисти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B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4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онтраиндиковани код деце млађе од 12 година, трудноћи и лактац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Д: фотосензибилизација, ексфолијативни дерматитис и Стивенс-Џонсонов синдром, хематолошка нежељена дејства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актрим® (сулфометаксазол:триметоприм=1:5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Индикације НИУТ, акутни и хронични простатитис, пнеумоније изазване пнеумоцистом и неке ретке респираторне инфе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Гликопептидни антибио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анкомицин и теикопла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Бактерицидно на грам позитивне и </a:t>
            </a:r>
            <a:r>
              <a:rPr b="0" lang="hr-HR" sz="2400" spc="-1" strike="noStrike">
                <a:solidFill>
                  <a:srgbClr val="000000"/>
                </a:solidFill>
                <a:latin typeface="Comic Sans MS"/>
              </a:rPr>
              <a:t>Clostridium difficil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бактер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Теикопланин се има дуже деловање због спорије елимин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Д: ототоксичност и нефротоксичност (теикопланин мање нефротоксичан), синдром црвеног човека, хиперсензитивност, опадање ко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Хинолон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68000" y="1988640"/>
            <a:ext cx="8351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Синтетски антимикробни лекови са јако широким спектром дело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ефлуориране (пипединска и налидиксна кисел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Флуориране (ципрофлоксацин, олфлоксацин, левофлоксацин, моксифлоксац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спираторни хинолон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або делују на анаеробе изузев моксифлоксац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Д: мучнина, главобоља, фотосензибилзација, руптура тетива, продужење QT интервала, конвулзије, конфуз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Основни принципи употребе антибио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 треба их примењивати уколико нису неопход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е почетка терапије на основу клиничке дијагнозе увек узети узорке биолошког материјала и спровести микробиолошке анализ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Лек треба применити у довољној доз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Једном започету терапију не мењати бар 3 д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оценити прве ефекте терап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Примену антибиотика треба да прате и друге терапијске процедуре (хируршка обрада ран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кон клиничког излечења терапију наставити бар још три дана да не би дошло до рециди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нтраиндикована је истовремена употреба бактерицидног и бактериостатског антибиоти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 txBox="1"/>
          <p:nvPr/>
        </p:nvSpPr>
        <p:spPr>
          <a:xfrm>
            <a:off x="394920" y="126828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Хвала на пажњи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Рационална употреба антибио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ајчешће грешке у антибиотској терапији јављају се к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е они прописуј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 инфекције микроорганизмима који не реагују 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антибиотике (нпр. вирус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 лечење фебрилности нејасног уз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нпр. системске болести везивног ткива, малигнитети, ТБ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а неадекватним дозирањем и приме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без бактериолошке потврде инфекц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дуготрајна парентерална терап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(нема општег правила, али било би рационално сваких 48-7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сата размотрити могућност примене оралног антибио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04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Класификација антибиотика према механизму деловањ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0720" y="2637000"/>
          <a:ext cx="8147160" cy="3031920"/>
        </p:xfrm>
        <a:graphic>
          <a:graphicData uri="http://schemas.openxmlformats.org/drawingml/2006/table">
            <a:tbl>
              <a:tblPr/>
              <a:tblGrid>
                <a:gridCol w="4073760"/>
                <a:gridCol w="4073400"/>
              </a:tblGrid>
              <a:tr h="370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еханизам деловањ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Антибактеријски агенс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хибиција синтезе ћелијског зид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ицилини, цефалоспорини, монобактами, ванко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693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хибициј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NK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гираз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нол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хибиција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NK </a:t>
                      </a: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олимераз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ифамп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хибиција синтезе протеин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ногликозиди, тетрациклини, еритромицин, хлорамфеник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хибиција синтезе фолне киселин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риметоприм, сулфонам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9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0440" y="11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Бактерицидни и бактериостатски антибиотиц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450720" y="2637000"/>
          <a:ext cx="8147160" cy="3038400"/>
        </p:xfrm>
        <a:graphic>
          <a:graphicData uri="http://schemas.openxmlformats.org/drawingml/2006/table">
            <a:tbl>
              <a:tblPr/>
              <a:tblGrid>
                <a:gridCol w="4073760"/>
                <a:gridCol w="4073400"/>
              </a:tblGrid>
              <a:tr h="3711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ктерицид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актериостатс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99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ицил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трацикл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Цефалоспори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лфонам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иногликозид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лорамфеник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Хиноло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инко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ef"/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мипенем, Котримоксазол, ванкомицин, еритромицин (високе дозе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индамицин, еритромицин (ниске дозе), спектиномиц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de"/>
                    </a:solidFill>
                  </a:tcPr>
                </a:tc>
              </a:tr>
            </a:tbl>
          </a:graphicData>
        </a:graphic>
      </p:graphicFrame>
      <p:sp>
        <p:nvSpPr>
          <p:cNvPr id="95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Избор антибио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иликом избора антибиотика, који ће постићи оптималну ефикасност уз најмањи ризик од могућих нежељених ефеката и најнижу цену, потребно је пре прописивања размотрити податке који се односе н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место, врсту и степен јачине инфекције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узрочника инфек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особине болесн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особине антибиот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Избор антибио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000" y="1988640"/>
            <a:ext cx="814716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емпиријска терапија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бира се лек 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широким спектром дејства) пр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скуству клиничар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дефинитивна терапија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(лек са уски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спектром дејства) према изолова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зрочнику и антибиограму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2800" spc="-1" strike="noStrike">
                <a:solidFill>
                  <a:srgbClr val="00b050"/>
                </a:solidFill>
                <a:latin typeface="Comic Sans MS"/>
              </a:rPr>
              <a:t>профилактичка или превентив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терап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Питања на које треба одговорити приликом избора антибиоти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98864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. Да ли постоји индикација за примену антибиотика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2. Да ли је узорак за испитивање на присуство инфективног агенса на правилан начин узет, и обрађен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3. Који је најчешћи узрочник? У емпиријској терапији врши се се на основу клиничке вероватноћ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4. Шта опредељује најбољи избор антибиотика за одређеног пацијента, између више расположивих, када је одређен узрочник? Карактеристике лека (фармакокинетика, нежељена дејст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5. Да ли је комбинована антибиотска терапија рационалан избор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6. Да ли су важне особине пацијента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7. Који је најбољи начин примен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8. Да ли је прописана одговарајућа доза лека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9. Да ли емпиријску, почетну терапију треба модификовати - променити после добијања података о идентификацији узрочника  инфекције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10. Да ли је прописано оптимално време за трајање терапије, и да ли у случају пролонгиране примене може да дође до развоја резистенције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Да ли постоји индикација за примену антибиотик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68360" y="1988640"/>
            <a:ext cx="842472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линички докази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 ургентне/озбиљне инфекције примена антибиотика је индикова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пр. пацијенти са бактеријским менингитисом или ендокардитис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код пацијената са фебрилним стањем и са присутном неутропенијом, у случају инфекције угрожена је живот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функција и потребно је применити емпиријску терап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За локализоване инфекције : пнеумонија, инфекције уринарног тракта, инфицирана рана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• </a:t>
            </a:r>
            <a:r>
              <a:rPr b="0" lang="ru-RU" sz="2000" spc="-1" strike="noStrike">
                <a:solidFill>
                  <a:srgbClr val="000000"/>
                </a:solidFill>
                <a:latin typeface="Comic Sans MS"/>
              </a:rPr>
              <a:t>Некомпликоване вирусне инфекције горњег респираторног тракта НИСУ индик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5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7"/>
          <p:cNvSpPr/>
          <p:nvPr/>
        </p:nvSpPr>
        <p:spPr>
          <a:xfrm>
            <a:off x="307800" y="79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icrosoft Office User</cp:lastModifiedBy>
  <dcterms:modified xsi:type="dcterms:W3CDTF">2023-02-06T11:56:34Z</dcterms:modified>
  <cp:revision>288</cp:revision>
  <dc:subject/>
  <dc:title>Slide 1</dc:title>
</cp:coreProperties>
</file>